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343C8D-CB47-4DF9-9A01-3F3EB456997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8CEEE3-8773-4ABF-B39C-708F31DFA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AB3F45-FF5B-42AE-B561-4DFE81BDB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158CA5-1938-441E-9CCD-46A0873B5D8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179596-A85D-4D1D-B8C8-FC74B0D11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40473B-B54C-44E0-816E-64C010DE9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13385A-E9CC-48FB-ACA8-DD200A7E7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D225CB-6A2E-45B1-953A-5331596C0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D0BDD0-BE58-4381-9ECD-054287E09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4733EF-CC05-4736-A3FE-006391C80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711EDD-3941-4C0A-A856-A0458185B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1FC20D-71AB-4CDB-9B4F-E911EFE76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A1F95-A02C-48BB-8006-621D0E6E2DE0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8ac8de"/>
                  </a:solidFill>
                  <a:latin typeface="Verdana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8ac8de"/>
                  </a:solidFill>
                  <a:latin typeface="Verdana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8ac8de"/>
                </a:solidFill>
                <a:latin typeface="Verdana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640"/>
              <a:ext cx="9115560" cy="1809000"/>
              <a:chOff x="28440" y="5048640"/>
              <a:chExt cx="9115560" cy="180900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640"/>
                <a:ext cx="9115560" cy="18090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8ac8de"/>
                  </a:solidFill>
                  <a:latin typeface="Verdana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64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8ac8de"/>
                  </a:solidFill>
                  <a:latin typeface="Verdana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8ac8de"/>
                  </a:solidFill>
                  <a:latin typeface="Verdana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8ac8de"/>
                  </a:solidFill>
                  <a:latin typeface="Verdana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8ac8de"/>
                </a:solidFill>
                <a:latin typeface="Verdana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8ac8de"/>
                </a:solidFill>
                <a:latin typeface="Verdana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8ac8de"/>
                </a:solidFill>
                <a:latin typeface="Verdana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8ac8de"/>
                </a:solidFill>
                <a:latin typeface="Verdana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8ac8de"/>
                </a:solidFill>
                <a:latin typeface="Verdana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十五节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恶性肿瘤的康复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6084720" y="5589720"/>
            <a:ext cx="20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Verdana"/>
                <a:ea typeface="宋体"/>
              </a:rPr>
              <a:t>   </a:t>
            </a:r>
            <a:r>
              <a:rPr b="1" lang="zh-CN" sz="3200" spc="-1" strike="noStrike">
                <a:solidFill>
                  <a:srgbClr val="ff0066"/>
                </a:solidFill>
                <a:latin typeface="Verdana"/>
                <a:ea typeface="宋体"/>
              </a:rPr>
              <a:t>陈慧娟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喉癌根治术后的康复及护理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4338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气管造口康复护理：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①康复环境 ；② 避免刺激性食物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言语功能康复护理：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①非言语交流；②食管言语；③电子喉；④喉再造术。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肩活动功能训练：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①局部低中频电疗、按摩、主动运动、抗阻运动。②必要时用吊带牵拉或进行矫形手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	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	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686120" y="1371240"/>
            <a:ext cx="4228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9" name="Picture 5" descr="放在关节活动那"/>
          <p:cNvPicPr/>
          <p:nvPr/>
        </p:nvPicPr>
        <p:blipFill>
          <a:blip r:embed="rId1"/>
          <a:stretch/>
        </p:blipFill>
        <p:spPr>
          <a:xfrm>
            <a:off x="4788000" y="1413000"/>
            <a:ext cx="385128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0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喉癌根治术后的康复及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24000" y="1557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形体康复：术后患者可穿高领衣服适当掩盖颈前造口。肩下垂者可穿垫肩衣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康复教育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：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①避免说话过多。②劳逸结合。③禁止游泳。④预防感冒等呼吸道疾病的发生。⑤合理饮食，进食稠糊状食品，防止误咽。多吃新鲜水果、蔬菜，预防便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肺癌术后肺功能的康复及护理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95280" y="1773360"/>
            <a:ext cx="42292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术后体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咳嗽技巧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呼吸训练：①深呼吸；   ②腹式呼吸；③辅助呼吸活动。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686120" y="1371240"/>
            <a:ext cx="4228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35" name="Picture 4" descr="放呼吸训练那"/>
          <p:cNvPicPr/>
          <p:nvPr/>
        </p:nvPicPr>
        <p:blipFill>
          <a:blip r:embed="rId1"/>
          <a:stretch/>
        </p:blipFill>
        <p:spPr>
          <a:xfrm>
            <a:off x="4788000" y="1700280"/>
            <a:ext cx="396072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4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肺癌术后肺功能的康复及护理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39280" y="1557000"/>
            <a:ext cx="8280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下肢与全身运动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：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①术后卧床期间经常伸屈下肢，防止下肢静脉血栓形成。②尽早下地活动，做呼吸操与全身体操，并进行步行、登楼梯等活动，以加大肺通气量。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康复教育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	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：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①戒烟； ②练习缓慢、均匀的腹式呼吸； ③指出锻炼的重要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康复护理指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844280"/>
            <a:ext cx="8610480" cy="440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健康教育指导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健身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避免不良生活习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职业性康复护理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娱乐康复治疗的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335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恶性肿瘤的康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ff0066"/>
                </a:solidFill>
                <a:latin typeface="Verdana"/>
                <a:ea typeface="宋体"/>
              </a:rPr>
              <a:t>广义上讲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包括肿瘤的根治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ff0066"/>
                </a:solidFill>
                <a:latin typeface="Verdana"/>
                <a:ea typeface="宋体"/>
              </a:rPr>
              <a:t>狭义上讲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是针对肿瘤所导致的原发性或继发性残疾，通过医学、教育、心理、职业等综合性手段，使肿瘤致残者尽可能改善或恢复功能，提高生活和生存质量。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1" lang="en-US" sz="1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康复护理评定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335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心理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躯体功能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癌症疼痛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(cancerous pain)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的原因及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活动功能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1" lang="en-US" sz="1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一）心理评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10920" y="1341000"/>
            <a:ext cx="79405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恶性肿瘤患者从疑诊、确诊到治疗前后都可能发生剧烈心理变化和心理反应，出现震惊、恐惧、否认、淡漠、抑郁、焦虑、悲伤等情绪。异常心理状态的出现多源于对疾病和治疗不了解及思想准备不足，产生了许多疑问，顾虑重重，使患者不能正确对待疾病，不能适应病后的现实，以致不能配合进行临床治疗和康复治疗，甚至因绝望而拒绝治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恶性肿瘤患者心理评定的原则和方法与一般心理评定相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0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躯体功能评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肿瘤本身所致的功能障碍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	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	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	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原发性损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继发性损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肿瘤治疗所致的功能障碍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	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	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	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化疗损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手术损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放疗损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三）癌症疼痛的原因及评定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7796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原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肿瘤压迫致疼痛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肿瘤浸润致疼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肿瘤治疗损伤致疼痛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评定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	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	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	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	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	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	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	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	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	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55640" y="3789360"/>
          <a:ext cx="6481800" cy="2311560"/>
        </p:xfrm>
        <a:graphic>
          <a:graphicData uri="http://schemas.openxmlformats.org/drawingml/2006/table">
            <a:tbl>
              <a:tblPr/>
              <a:tblGrid>
                <a:gridCol w="865080"/>
                <a:gridCol w="561672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0066"/>
                          </a:solidFill>
                          <a:latin typeface="Verdana"/>
                          <a:ea typeface="宋体"/>
                        </a:rPr>
                        <a:t>级别</a:t>
                      </a:r>
                      <a:endParaRPr b="1" lang="en-US" sz="18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0066"/>
                          </a:solidFill>
                          <a:latin typeface="Verdana"/>
                          <a:ea typeface="宋体"/>
                        </a:rPr>
                        <a:t>应用镇痛药情况</a:t>
                      </a:r>
                      <a:endParaRPr b="1" lang="en-US" sz="18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0</a:t>
                      </a: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级</a:t>
                      </a:r>
                      <a:endParaRPr b="1" lang="en-US" sz="18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不痛</a:t>
                      </a:r>
                      <a:endParaRPr b="1" lang="en-US" sz="18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</a:t>
                      </a: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级 </a:t>
                      </a:r>
                      <a:endParaRPr b="1" lang="en-US" sz="18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需非麻醉性镇痛药</a:t>
                      </a:r>
                      <a:endParaRPr b="1" lang="en-US" sz="18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415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</a:t>
                      </a: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级</a:t>
                      </a:r>
                      <a:endParaRPr b="1" lang="en-US" sz="18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需口服麻醉剂 </a:t>
                      </a:r>
                      <a:endParaRPr b="1" lang="en-US" sz="18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432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3</a:t>
                      </a: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级</a:t>
                      </a:r>
                      <a:endParaRPr b="1" lang="en-US" sz="18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需口服与／或需肌内注射麻醉剂</a:t>
                      </a:r>
                      <a:endParaRPr b="1" lang="en-US" sz="18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4</a:t>
                      </a: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级</a:t>
                      </a:r>
                      <a:endParaRPr b="1" lang="en-US" sz="18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需静脉注射麻醉剂</a:t>
                      </a:r>
                      <a:endParaRPr b="1" lang="en-US" sz="18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四）活动功能评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324000" y="1773360"/>
          <a:ext cx="8610480" cy="4297320"/>
        </p:xfrm>
        <a:graphic>
          <a:graphicData uri="http://schemas.openxmlformats.org/drawingml/2006/table">
            <a:tbl>
              <a:tblPr/>
              <a:tblGrid>
                <a:gridCol w="8610480"/>
              </a:tblGrid>
              <a:tr h="45756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51339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      </a:t>
                      </a: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表现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	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                                    计分</a:t>
                      </a:r>
                      <a:endParaRPr b="1" lang="en-US" sz="20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 marL="343080" indent="-76320">
                        <a:lnSpc>
                          <a:spcPct val="100000"/>
                        </a:lnSpc>
                        <a:tabLst>
                          <a:tab algn="l" pos="0"/>
                          <a:tab algn="r" pos="55785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                                 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正常，无症状，无疾病的表现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	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                  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100</a:t>
                      </a:r>
                      <a:endParaRPr b="1" lang="en-US" sz="20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  <a:p>
                      <a:pPr marL="343080" indent="-76320">
                        <a:lnSpc>
                          <a:spcPct val="100000"/>
                        </a:lnSpc>
                        <a:tabLst>
                          <a:tab algn="l" pos="0"/>
                          <a:tab algn="r" pos="55785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能正常生活，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	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         能进行正常活动，症状与体征很轻                       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90 </a:t>
                      </a:r>
                      <a:endParaRPr b="1" lang="en-US" sz="20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  <a:p>
                      <a:pPr marL="343080" indent="-76320">
                        <a:lnSpc>
                          <a:spcPct val="100000"/>
                        </a:lnSpc>
                        <a:tabLst>
                          <a:tab algn="l" pos="0"/>
                          <a:tab algn="r" pos="55785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不需特殊照顾           经努力能正常活动，有些症状与体征                   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80 </a:t>
                      </a:r>
                      <a:endParaRPr b="1" lang="en-US" sz="20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276120"/>
                          <a:tab algn="l" pos="1762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r" pos="55785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                                     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能自我照料，但不能进行正常活动或工作           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70</a:t>
                      </a:r>
                      <a:endParaRPr b="1" lang="en-US" sz="20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276120"/>
                          <a:tab algn="l" pos="1762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r" pos="55785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	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不能工作，生活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	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   偶需他人协助，但尚能自理多数的个人需要        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60</a:t>
                      </a:r>
                      <a:endParaRPr b="1" lang="en-US" sz="20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276120"/>
                          <a:tab algn="l" pos="1762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r" pos="55785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	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需不同程度协助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	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   需他人较多的帮助，常需医疗护理                        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50</a:t>
                      </a:r>
                      <a:endParaRPr b="1" lang="en-US" sz="20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132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18381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	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                                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残疾需特殊照顾与协助                                            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40</a:t>
                      </a:r>
                      <a:endParaRPr b="1" lang="en-US" sz="20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18381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  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不能自理生活，       严重残疾，应住院，无死亡危险                            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30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	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             </a:t>
                      </a:r>
                      <a:endParaRPr b="1" lang="en-US" sz="20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18381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  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需特殊照顾，病       病重，需住院，必须给予积极的支持性治疗        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20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         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      </a:t>
                      </a:r>
                      <a:endParaRPr b="1" lang="en-US" sz="20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18381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 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情发展加重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	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        濒临死亡                                                                    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10</a:t>
                      </a:r>
                      <a:endParaRPr b="1" lang="en-US" sz="20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18381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                                     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死亡 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	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                                                                  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0             </a:t>
                      </a:r>
                      <a:endParaRPr b="1" lang="en-US" sz="20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1" name="Rectangle 69"/>
          <p:cNvSpPr/>
          <p:nvPr/>
        </p:nvSpPr>
        <p:spPr>
          <a:xfrm>
            <a:off x="2700360" y="1231920"/>
            <a:ext cx="39607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ca6"/>
                </a:solidFill>
                <a:latin typeface="Verdana"/>
                <a:ea typeface="宋体"/>
              </a:rPr>
              <a:t>Karnofsky</a:t>
            </a:r>
            <a:r>
              <a:rPr b="1" lang="zh-CN" sz="1800" spc="-1" strike="noStrike">
                <a:solidFill>
                  <a:srgbClr val="046ca6"/>
                </a:solidFill>
                <a:latin typeface="Verdana"/>
                <a:ea typeface="宋体"/>
              </a:rPr>
              <a:t>活动状况评定量表 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康复护理措施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24000" y="112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-71136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康复护理目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-71136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康复护理目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-71136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康复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	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一）心理康复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二）营养支持康复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三）功能障碍的康复治疗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四）常见癌症康复治疗护理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乳腺癌术后上肢水肿的康复及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喉癌根治术后的康复及护理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肺癌术后肺功能的康复及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乳腺癌术后上肢水肿的康复及护理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50560" y="1196640"/>
            <a:ext cx="8497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保持功能位：可减轻肿胀感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被动运动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: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术后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1~2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天即进行小幅度的肩关节被动运动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主动运动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保护患肢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: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以免引起患肢循环受损及感染。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康复教育：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①定期体格检查，发现乳房肿块及时诊治。②建立高维生素、高纤维素、低脂肪的饮食结构。③术后尽早进行患侧上肢锻炼。④保护患侧上肢免受损伤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Guest2</cp:lastModifiedBy>
  <dcterms:modified xsi:type="dcterms:W3CDTF">2015-12-17T02:23:29Z</dcterms:modified>
  <cp:revision>109</cp:revision>
  <dc:subject/>
  <dc:title>内科护理学</dc:title>
</cp:coreProperties>
</file>